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A70C5-3DF7-4AB7-A3E6-CE74A10553C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Reproductive System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Male and Femal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 and Fe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Female System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Ovaries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ovaries are the female sex organ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y produce the egg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y also make the female hormones oestrogen and progesteron (between 10 and 15 years)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ar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varies are the female sex orga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produce the eg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lso make the female hormones oestrogen and progesteron (between 10 and 15 year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Egg tub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n egg is released about every 28 day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egg passes out of the ovary and moves into the egg tub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is is called ovulation and is when an egg may become fertilized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g tu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gg is released about every 28 d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gg passes out of the ovary and moves into the egg tub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called ovulation and is when an egg may become fertiliz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Uteru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egg slowly moves down towards the uterus (womb)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If sperms are present in the egg tube the egg will be fertilised.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If the egg is not fertilised it will dies after about a day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te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gg slowly moves down towards the uterus (womb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sperms are present in the egg tube the egg will be fertilis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egg is not fertilised it will dies after about a d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Cervix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lower end of the uterus has a ring of muscle called the cervix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It leads to a muscular tube called the vagina that opens to the outside of the body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rv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wer end of the uterus has a ring of muscle called the cervi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leads to a muscular tube called the vagina that opens to the outside of the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Uncomfortable Words?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Peni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Testi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Scrotum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Sperm tub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Gland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Vagina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Ovary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Uteru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Cervix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Egg tub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mfortable Word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rot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tu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g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te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rv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g tu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Male system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Scrotum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testes are inside a sac called the scrotum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It hangs outside the body, keeping the sperm cool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Sperms only develop properly in cool condition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rot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stes are inside a sac called the scrot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hangs outside the body, keeping the sperm co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s only develop properly in cool cond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Sperm tub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Sperms are produced all the tim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y are stored in small tubes outside the teste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Eventually they pass along a much bigger tube called the sperm tub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tu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s are produced all the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stored in small tubes outside the tes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tually they pass along a much bigger tube called the sperm tub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Gland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Glands add a fluid which keeps the sperms aliv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sperms and the fluid are called semen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nds add a fluid which keeps the sperms al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rms and the fluid are called sem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eni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penis must be erect for the semen to pass out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is happens when blood is pumped into special spongy tissue in the peni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nis must be erect for the semen to pass 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happens when blood is pumped into special spongy tissue in the pen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Sperm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During an ejaculation semen is pumped out of the penis – due to a  contraction of the muscles around the sperm tube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Each ejaculation makes about a teaspoon of semen but this can contai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 500 million sperm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an ejaculation semen is pumped out of the penis – due to a  contraction of the muscles around the sperm tub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ejaculation makes about a teaspoon of semen but this can contai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500 million sp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AD0F-CA31-4F7D-B7DD-044169A73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E14C-D3FC-4B39-AEC7-AD22E21BD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FF9B-761D-40C7-AEEB-BB3E6DDEE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F1EA-7C9C-4A45-AC86-988754756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C100D-52A8-4679-AF72-5663BF381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68773-E3A4-4FDE-A9E6-A5B395265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F9631-B744-47DA-974B-A5A1E9DEE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30E0C-A4F1-4689-8493-2D7A0A5C0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58963-E34D-4A71-A829-9A2FE6B61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48EA8-EFF7-448F-8F4D-CE28E9264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1D195-CA45-49B7-B9C0-070E7A069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AAAD-8CF9-4F47-9A07-A3A7D357F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D0346-8B5A-4969-AE36-CD98CA0F3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BDC59-6757-45BD-A621-A37FB31DE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72FBB-E989-4C49-9176-6D7573A24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F6829-0B44-40D8-B147-B22849BC7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195CE-3826-442C-A1ED-A298DD1D6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46BF-EE33-4B1A-AA86-6B536EA8E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BAFF-6E48-4A94-8E8E-565294594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988A-5AE8-4EA1-A0D1-95496D66E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8B1F-EA82-489C-95DE-8E3ABA652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30B8-AE68-4CAB-9B34-5C4E1D02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79B9-FB68-463F-898F-0C46B0674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E996-2ACE-4D82-82A4-678487BE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D83F7-25F7-4E46-B08F-25BF0B992EA9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EE1B2-6ED2-4680-A923-D65A0A78B177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Reproductive System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Male and Femal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Female System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19" name="Object 4"/>
          <p:cNvGraphicFramePr/>
          <p:nvPr/>
        </p:nvGraphicFramePr>
        <p:xfrm>
          <a:off x="2057400" y="2209680"/>
          <a:ext cx="5334120" cy="359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209680"/>
                    <a:ext cx="5334120" cy="35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Ovaries</a:t>
            </a: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ovaries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 are the female sex organ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ey produce the egg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ey also make the female hormones oestrogen and progesteron (between 10 and 15 years)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Egg tub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An egg is released about every 28 day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e egg passes out of the ovary and moves into 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egg tube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is is called ovulation and is when an egg may become fertilized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Uteru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e egg slowly moves down towards 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uterus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 (womb)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If sperms are present in 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egg tube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 the egg will be fertilised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If the egg is not fertilised it will dies after about a day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Cervix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e lower end of the uterus has a ring of muscle called 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cervix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It leads to a muscular tube called 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vagina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 that opens to the outside of the bod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maleunlabelled"/>
          <p:cNvPicPr/>
          <p:nvPr/>
        </p:nvPicPr>
        <p:blipFill>
          <a:blip r:embed="rId1"/>
          <a:stretch/>
        </p:blipFill>
        <p:spPr>
          <a:xfrm>
            <a:off x="1763640" y="836640"/>
            <a:ext cx="6696000" cy="58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female_reproductive_organs_front"/>
          <p:cNvPicPr/>
          <p:nvPr/>
        </p:nvPicPr>
        <p:blipFill>
          <a:blip r:embed="rId1"/>
          <a:srcRect l="18259" t="40659" r="12353" b="0"/>
          <a:stretch/>
        </p:blipFill>
        <p:spPr>
          <a:xfrm>
            <a:off x="1258920" y="0"/>
            <a:ext cx="676764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Uncomfortable Words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Peni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Testi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Scrotum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Sperm tub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Gland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Vagin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Ovar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Uteru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Cervix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Egg tub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Male system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06" name="Object 3"/>
          <p:cNvGraphicFramePr/>
          <p:nvPr/>
        </p:nvGraphicFramePr>
        <p:xfrm>
          <a:off x="4648320" y="1523880"/>
          <a:ext cx="3962160" cy="48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523880"/>
                    <a:ext cx="396216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Scrotum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testes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 are inside a sac called 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scrotum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It hangs outside the body, keeping the sperm cool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Sperms only develop properly in cool condition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Sperm tub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Sperms are produced all the tim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ey are stored in small tubes outside the teste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Eventually they pass along a much bigger tube called 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sperm tube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Gland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Glands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 add a fluid which keeps the sperms aliv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e sperms and the fluid are called semen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Peni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penis</a:t>
            </a: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 must be erect for the semen to pass out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This happens when blood is pumped into special spongy tissue in the peni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Sperm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During an ejaculation semen is pumped out of the penis – due to a  contraction of the muscles around the sperm tube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Each ejaculation makes about a teaspoon of semen but this can contain: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GB" sz="4000" spc="-1" strike="noStrike">
                <a:solidFill>
                  <a:srgbClr val="2a3d7a"/>
                </a:solidFill>
                <a:latin typeface="Times New Roman"/>
              </a:rPr>
              <a:t>500 million sperms</a:t>
            </a: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20:49:23Z</dcterms:created>
  <dc:creator>IBM_User</dc:creator>
  <dc:description/>
  <dc:language>en-US</dc:language>
  <cp:lastModifiedBy>RomaK</cp:lastModifiedBy>
  <dcterms:modified xsi:type="dcterms:W3CDTF">2015-09-04T11:08:17Z</dcterms:modified>
  <cp:revision>8</cp:revision>
  <dc:subject/>
  <dc:title>Reproductive Systems</dc:title>
</cp:coreProperties>
</file>